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C727F-F722-437A-B0CB-D4E2C96E0E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R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4C5CA-7B73-44DC-A8AF-AAEFA0A767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R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7FFAD-07C0-4700-A9C0-B08E2E9155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E2A1D-7B83-406F-AA38-83E4DF7F6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5B610-269B-4E8A-9B7C-1AB448FF5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0BAE0-A5A4-45E2-83F6-4784DE0CA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8E434-5B6B-488A-A07D-909DCEF3F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BA98C-4E51-40F2-96A0-1F6419DD9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FC515-6696-4103-98E1-32E2475B7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441B3-95C4-4BE1-AC29-83BBC04F9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2F77A-077B-4970-AA2B-32C81DBB7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B8F73-353B-406E-8727-3A44F27AA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BB65C-966E-46A3-98CC-FDE8217C8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D1B31-7773-41AD-9B90-15026F763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B990E-F0BC-495D-A35A-166C89AE5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D0539-50C2-45A1-B410-332798183C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2968560"/>
            <a:ext cx="7772400" cy="16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Педијатрија – Исхрана 5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45720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Биљана Вулети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3352680" y="228600"/>
            <a:ext cx="161928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Content Placeholder 3" descr="001.JPG"/>
          <p:cNvPicPr/>
          <p:nvPr/>
        </p:nvPicPr>
        <p:blipFill>
          <a:blip r:embed="rId1"/>
          <a:stretch/>
        </p:blipFill>
        <p:spPr>
          <a:xfrm>
            <a:off x="712800" y="1295280"/>
            <a:ext cx="7759800" cy="548820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2"/>
          <p:cNvSpPr/>
          <p:nvPr/>
        </p:nvSpPr>
        <p:spPr>
          <a:xfrm>
            <a:off x="838080" y="528480"/>
            <a:ext cx="762012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ФИЗИОЛОШКА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УЛОГА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ИТАМИНА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Д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1"/>
          <p:cNvSpPr/>
          <p:nvPr/>
        </p:nvSpPr>
        <p:spPr>
          <a:xfrm>
            <a:off x="228600" y="390600"/>
            <a:ext cx="731520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ИТАМИН Д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ONCLASSIC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ЕФEКТИ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2"/>
          <p:cNvSpPr/>
          <p:nvPr/>
        </p:nvSpPr>
        <p:spPr>
          <a:xfrm>
            <a:off x="304920" y="1203480"/>
            <a:ext cx="51814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модулација Т и Б лимфоцит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супресија реналне секрециј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стимулација инсулинске секрециј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регулација синтезе и ослобађања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TH, ТSХ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и неких других хормон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Content Placeholder 3" descr="006.JPG"/>
          <p:cNvPicPr/>
          <p:nvPr/>
        </p:nvPicPr>
        <p:blipFill>
          <a:blip r:embed="rId1"/>
          <a:stretch/>
        </p:blipFill>
        <p:spPr>
          <a:xfrm>
            <a:off x="95400" y="3048120"/>
            <a:ext cx="8967600" cy="37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"/>
          <p:cNvSpPr/>
          <p:nvPr/>
        </p:nvSpPr>
        <p:spPr>
          <a:xfrm>
            <a:off x="228600" y="1143000"/>
            <a:ext cx="9144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релације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Ви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Д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дефицит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и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болести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малигнитет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 ( колон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простат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дојк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јајник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аутоимун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болест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( мултипл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склероз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Р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ДМ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тип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1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алергијск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R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V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неуролошк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психијатријск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Ви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Д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дефици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током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трудноће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поре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нежељених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ефекат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н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фету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повећа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ризи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о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гестационог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дијабетес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прееклампсиј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хируршких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болест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превременог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порођај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274680" y="533520"/>
            <a:ext cx="429264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ИТАМИН Д ПОТРЕБЕ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1"/>
          <p:cNvSpPr/>
          <p:nvPr/>
        </p:nvSpPr>
        <p:spPr>
          <a:xfrm>
            <a:off x="-1066680" y="1295280"/>
            <a:ext cx="97534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371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римарно се задовољавају излагањем сунц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тандрадна храна генерално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недовољн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да покрије потреб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-3 x недељно директно излагање сунцу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-15 мин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-15% површине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коже ( лице, руке, ноге ) у средњеевропским климатским условима , могу задовољити потребе за вит. 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бојазан од малигних болести коже ,  избегавање директног излагања сунцу или употреби заштитних крема са високим факторим заштите посебно за време првих 6 месеци по рођењу и чак раном детињству када су потребе за Вит Д релативно високе, модеран стил живота са боравком у затвореном простору смањује природне изворе и повећава потребу за додатним оралним уносом у виду суплеменат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тренутни докази сугеришу да деце са серумском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конц.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25 (OH) D ≤ 50 nmol/л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и мањом имају корист од витамин Д суплементациј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2"/>
          <p:cNvSpPr/>
          <p:nvPr/>
        </p:nvSpPr>
        <p:spPr>
          <a:xfrm>
            <a:off x="322200" y="685800"/>
            <a:ext cx="424980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ИТАМИН Д ПОТРЕБЕ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250920"/>
            <a:ext cx="8153640" cy="1272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Нутритивне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отребе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детета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вит Д </a:t>
            </a:r>
            <a:r>
              <a:rPr b="0" i="1" lang="sl-SI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sl-SI" sz="3200" spc="-1" strike="noStrike">
                <a:solidFill>
                  <a:srgbClr val="000000"/>
                </a:solidFill>
                <a:latin typeface="Times New Roman"/>
              </a:rPr>
              <a:t>IJ/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76320" y="1676520"/>
          <a:ext cx="4495680" cy="4483080"/>
        </p:xfrm>
        <a:graphic>
          <a:graphicData uri="http://schemas.openxmlformats.org/drawingml/2006/table">
            <a:tbl>
              <a:tblPr/>
              <a:tblGrid>
                <a:gridCol w="1753920"/>
                <a:gridCol w="978120"/>
                <a:gridCol w="938160"/>
                <a:gridCol w="825480"/>
              </a:tblGrid>
              <a:tr h="1325520"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zra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god.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7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RC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8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9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23680"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 – 0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24040"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5 –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3280"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–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3280"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– 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3280"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 – 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82" name=""/>
          <p:cNvGraphicFramePr/>
          <p:nvPr/>
        </p:nvGraphicFramePr>
        <p:xfrm>
          <a:off x="4476600" y="1649520"/>
          <a:ext cx="4594320" cy="4575240"/>
        </p:xfrm>
        <a:graphic>
          <a:graphicData uri="http://schemas.openxmlformats.org/drawingml/2006/table">
            <a:tbl>
              <a:tblPr/>
              <a:tblGrid>
                <a:gridCol w="1532160"/>
                <a:gridCol w="1530360"/>
                <a:gridCol w="1531800"/>
              </a:tblGrid>
              <a:tr h="10270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zrast (god.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AR,CN 200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M, FNB,20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34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≤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37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-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34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9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–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≥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8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34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UDNIC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290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OJILJ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3" name="TextBox 7"/>
          <p:cNvSpPr/>
          <p:nvPr/>
        </p:nvSpPr>
        <p:spPr>
          <a:xfrm>
            <a:off x="155520" y="6319800"/>
            <a:ext cx="4157640" cy="4770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200" spc="-1" strike="noStrike">
                <a:solidFill>
                  <a:srgbClr val="ffffff"/>
                </a:solidFill>
                <a:latin typeface="Arial Narrow"/>
              </a:rPr>
              <a:t>World Health Organization, 1974; National Academy of Science (USA),</a:t>
            </a:r>
            <a:r>
              <a:rPr b="0" i="1" lang="en-US" sz="12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i="1" lang="sl-SI" sz="1200" spc="-1" strike="noStrike">
                <a:solidFill>
                  <a:srgbClr val="ffffff"/>
                </a:solidFill>
                <a:latin typeface="Arial Narrow"/>
              </a:rPr>
              <a:t>1989;</a:t>
            </a:r>
            <a:r>
              <a:rPr b="0" i="1" lang="en-US" sz="12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i="1" lang="sl-SI" sz="1200" spc="-1" strike="noStrike">
                <a:solidFill>
                  <a:srgbClr val="ffffff"/>
                </a:solidFill>
                <a:latin typeface="Arial Narrow"/>
              </a:rPr>
              <a:t>Department of Health (UK), 199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Box 8"/>
          <p:cNvSpPr/>
          <p:nvPr/>
        </p:nvSpPr>
        <p:spPr>
          <a:xfrm>
            <a:off x="4571640" y="6334200"/>
            <a:ext cx="4460400" cy="4590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 Narrow"/>
              </a:rPr>
              <a:t>( AAP, CN </a:t>
            </a:r>
            <a:r>
              <a:rPr b="0" i="1" lang="en-US" sz="1200" spc="-1" strike="noStrike">
                <a:solidFill>
                  <a:srgbClr val="ffffff"/>
                </a:solidFill>
                <a:latin typeface="Arial Narrow"/>
              </a:rPr>
              <a:t>– American Academy of Pediatrics, Committee on Nutrition, 2008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 Narrow"/>
              </a:rPr>
              <a:t>FNB </a:t>
            </a:r>
            <a:r>
              <a:rPr b="0" i="1" lang="en-US" sz="1200" spc="-1" strike="noStrike">
                <a:solidFill>
                  <a:srgbClr val="ffffff"/>
                </a:solidFill>
                <a:latin typeface="Arial Narrow"/>
              </a:rPr>
              <a:t>– </a:t>
            </a:r>
            <a:r>
              <a:rPr b="1" i="1" lang="en-US" sz="1200" spc="-1" strike="noStrike">
                <a:solidFill>
                  <a:srgbClr val="ffffff"/>
                </a:solidFill>
                <a:latin typeface="Arial Narrow"/>
              </a:rPr>
              <a:t>Institute of Medicine, </a:t>
            </a:r>
            <a:r>
              <a:rPr b="0" i="1" lang="en-US" sz="1200" spc="-1" strike="noStrike">
                <a:solidFill>
                  <a:srgbClr val="ffffff"/>
                </a:solidFill>
                <a:latin typeface="Arial Narrow"/>
              </a:rPr>
              <a:t>Food and Nutrition Board, 2010 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2"/>
          <p:cNvSpPr/>
          <p:nvPr/>
        </p:nvSpPr>
        <p:spPr>
          <a:xfrm>
            <a:off x="965520" y="324000"/>
            <a:ext cx="7205040" cy="880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АКТИВНОСТ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ИТАМИНА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Д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ХУМАНОМ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M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ЛЕКУ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0,3-10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ј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./ 100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л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лек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КРАВЉЕМ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M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ЛЕКУ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0,3-4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ј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. / 100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л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лек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АД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ТИРАНЕ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лечне формуле 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АД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ЖЕ 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ПТИМАЛНУ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КОЛИЧ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НУ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ИТ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Д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2"/>
          <p:cNvSpPr/>
          <p:nvPr/>
        </p:nvSpPr>
        <p:spPr>
          <a:xfrm>
            <a:off x="955440" y="958680"/>
            <a:ext cx="72172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ОДОЈЧЕ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МОРА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СВАКОДНЕВНО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ДА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УНОСИ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sl-SI" sz="2800" spc="-1" strike="noStrike">
                <a:solidFill>
                  <a:srgbClr val="000000"/>
                </a:solidFill>
                <a:latin typeface="Times New Roman"/>
              </a:rPr>
              <a:t>400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sl-SI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1" i="1" lang="sl-SI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ИТ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Д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ОВА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ДОЗА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НЕ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МОЖЕ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ДА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БУДЕ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ШТЕТНА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ЧАК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ИАКО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СЕ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ИЗЛАЖЕ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СУНЦУ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ОДОЈЧЕ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НА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АДАПТИРАНОЈ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ФОРМУЛИ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НЕ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ЗАХТЕВА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ДОДАТНИ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УНОС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ИТ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Д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0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2"/>
          <p:cNvSpPr/>
          <p:nvPr/>
        </p:nvSpPr>
        <p:spPr>
          <a:xfrm>
            <a:off x="495360" y="914400"/>
            <a:ext cx="824544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ОЗИРАЊЕ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Т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ОД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ЕТА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ЈЕ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ЛАЖЕ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НЦУ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МОГУЋЕ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ХАНИЗАМ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СТРАЊЕЊА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Т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ХИСТЕРОЛ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УМИСТЕРОЛ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ЉУШТЕЊЕМ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ЖЕ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СТРАЊУЈЕ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ША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БРАНА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ВАРАЊЕМ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ЛАНИНА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ЧНО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ГУЛИШЕ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ЦЕНТРАЦИЈУ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Т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0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2"/>
          <p:cNvSpPr/>
          <p:nvPr/>
        </p:nvSpPr>
        <p:spPr>
          <a:xfrm>
            <a:off x="152280" y="228600"/>
            <a:ext cx="8602920" cy="65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imes New Roman"/>
              </a:rPr>
              <a:t>                           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ВИТАМ</a:t>
            </a:r>
            <a:r>
              <a:rPr b="1" lang="sr-RS" sz="36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Н Д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</a:rPr>
              <a:t>БИОЛ</a:t>
            </a:r>
            <a:r>
              <a:rPr b="0" lang="sr-Latn-R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</a:rPr>
              <a:t>ШКИ</a:t>
            </a:r>
            <a:r>
              <a:rPr b="0" lang="sr-Latn-RS" sz="2800" spc="-1" strike="noStrike">
                <a:solidFill>
                  <a:srgbClr val="000000"/>
                </a:solidFill>
                <a:latin typeface="Times New Roman"/>
              </a:rPr>
              <a:t> O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</a:rPr>
              <a:t>БЛИЦИ</a:t>
            </a:r>
            <a:r>
              <a:rPr b="0" lang="sr-Latn-R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стероидн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деривата холестерола</a:t>
            </a:r>
            <a:r>
              <a:rPr b="1" lang="sr-Latn-R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sl-SI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i="1" lang="sl-SI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sl-SI" sz="2400" spc="-1" strike="noStrike">
                <a:solidFill>
                  <a:srgbClr val="000000"/>
                </a:solidFill>
                <a:latin typeface="Times New Roman"/>
              </a:rPr>
              <a:t>al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sl-SI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sl-SI" sz="2400" spc="-1" strike="noStrike">
                <a:solidFill>
                  <a:srgbClr val="000000"/>
                </a:solidFill>
                <a:latin typeface="Times New Roman"/>
              </a:rPr>
              <a:t>erol 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D</a:t>
            </a:r>
            <a:r>
              <a:rPr b="1" i="1" lang="sl-SI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sl-SI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sl-SI" sz="2400" spc="-1" strike="noStrike">
                <a:solidFill>
                  <a:srgbClr val="000000"/>
                </a:solidFill>
                <a:latin typeface="Times New Roman"/>
              </a:rPr>
              <a:t>olekalciferol (D</a:t>
            </a:r>
            <a:r>
              <a:rPr b="1" i="1" lang="sl-SI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sl-SI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З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Р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К</a:t>
            </a:r>
            <a:r>
              <a:rPr b="1" lang="sr-RS" sz="2800" spc="-1" strike="noStrike" u="sng">
                <a:solidFill>
                  <a:srgbClr val="000000"/>
                </a:solidFill>
                <a:uFillTx/>
                <a:latin typeface="Times New Roman"/>
              </a:rPr>
              <a:t>О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Ж</a:t>
            </a:r>
            <a:r>
              <a:rPr b="1" lang="sr-RS" sz="2800" spc="-1" strike="noStrike" u="sng">
                <a:solidFill>
                  <a:srgbClr val="000000"/>
                </a:solidFill>
                <a:uFillTx/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ПРОВИТАМ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   7 -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ДЕХ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</a:rPr>
              <a:t>ДР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Л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</a:rPr>
              <a:t>Е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</a:rPr>
              <a:t>Т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</a:rPr>
              <a:t>Р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</a:rPr>
              <a:t>Л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</a:t>
            </a:r>
            <a:r>
              <a:rPr b="1" lang="sl-SI" sz="2000" spc="-1" strike="noStrike">
                <a:solidFill>
                  <a:srgbClr val="000000"/>
                </a:solidFill>
                <a:latin typeface="Wingdings 3"/>
                <a:ea typeface="Wingdings 3"/>
              </a:rPr>
              <a:t>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УНЧЕВА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</a:rPr>
              <a:t>СВ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ТЛОС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</a:rPr>
              <a:t>Т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К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</a:rPr>
              <a:t>Н 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</a:rPr>
              <a:t>ВИТ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Д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</a:t>
            </a:r>
            <a:r>
              <a:rPr b="1" lang="sl-SI" sz="2000" spc="-1" strike="noStrike">
                <a:solidFill>
                  <a:srgbClr val="000000"/>
                </a:solidFill>
                <a:latin typeface="Wingdings 3"/>
                <a:ea typeface="Wingdings 3"/>
              </a:rPr>
              <a:t>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ХОЛЕКА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</a:rPr>
              <a:t>Л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ЦИФ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</a:rPr>
              <a:t>Е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Р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</a:rPr>
              <a:t>ОЛ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Content Placeholder 3" descr="Reaction-Dehydrocholesterol-PrevitaminD3.png"/>
          <p:cNvPicPr/>
          <p:nvPr/>
        </p:nvPicPr>
        <p:blipFill>
          <a:blip r:embed="rId1"/>
          <a:stretch/>
        </p:blipFill>
        <p:spPr>
          <a:xfrm>
            <a:off x="3594240" y="3276720"/>
            <a:ext cx="5168880" cy="1218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1"/>
          <p:cNvSpPr/>
          <p:nvPr/>
        </p:nvSpPr>
        <p:spPr>
          <a:xfrm>
            <a:off x="533520" y="1752480"/>
            <a:ext cx="4572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ЗАВИСИ ОД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географск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ширин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годишњег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доб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дужин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излагањ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сунцу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количин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меланин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кож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доб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дан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дужин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излагањ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сунц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степен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заштит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о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сунц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Content Placeholder 3" descr="Skinlayers.png"/>
          <p:cNvPicPr/>
          <p:nvPr/>
        </p:nvPicPr>
        <p:blipFill>
          <a:blip r:embed="rId1"/>
          <a:stretch/>
        </p:blipFill>
        <p:spPr>
          <a:xfrm>
            <a:off x="4648320" y="1766880"/>
            <a:ext cx="3962160" cy="3719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5" name="Rectangle 3"/>
          <p:cNvSpPr/>
          <p:nvPr/>
        </p:nvSpPr>
        <p:spPr>
          <a:xfrm>
            <a:off x="3962520" y="5834160"/>
            <a:ext cx="472428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епидермални кератоцити и дермални фибробласти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4"/>
          <p:cNvSpPr/>
          <p:nvPr/>
        </p:nvSpPr>
        <p:spPr>
          <a:xfrm>
            <a:off x="457200" y="457200"/>
            <a:ext cx="7543800" cy="106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Степен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кожне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продукције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 витамина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Д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R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2"/>
          <p:cNvSpPr/>
          <p:nvPr/>
        </p:nvSpPr>
        <p:spPr>
          <a:xfrm>
            <a:off x="188280" y="228600"/>
            <a:ext cx="9180000" cy="69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З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ОР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ХРАНА</a:t>
            </a:r>
            <a:r>
              <a:rPr b="0" lang="sl-SI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животињског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порекла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</a:rPr>
              <a:t>: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рибље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уље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риб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жуманце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џигериц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обогаћене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млечн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формул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бутер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ТРАНСПО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R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itamin D Binding Protein ( DBP )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</a:rPr>
              <a:t>ј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tru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</a:rPr>
              <a:t>све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</a:rPr>
              <a:t>орг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</a:rPr>
              <a:t>Ф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</a:rPr>
              <a:t>т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</a:rPr>
              <a:t>из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</a:rPr>
              <a:t>ризација 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</a:rPr>
              <a:t>т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</a:rPr>
              <a:t>ксични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</a:rPr>
              <a:t>ет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</a:rPr>
              <a:t>болит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 lumisterol, tahisterol, suprasterol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sr-R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sr-Latn-R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5,6 trans holekacifero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</a:rPr>
              <a:t>меланинским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</a:rPr>
              <a:t>заштитним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</a:rPr>
              <a:t>ф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</a:rPr>
              <a:t>ктом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</a:rPr>
              <a:t>перм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</a:rPr>
              <a:t>нтном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</a:rPr>
              <a:t>кожном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</a:rPr>
              <a:t>д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</a:rPr>
              <a:t>сквамацијом ,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</a:rPr>
              <a:t>гр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</a:rPr>
              <a:t>ниченим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 DBP )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</a:rPr>
              <a:t>транспортним капацитетом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Итоксикација Витамином Д излагањем сунцу немогућ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</a:rPr>
              <a:t>Унос храном или суплемената – липосолубилне супстанце – хиломикрони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</a:rPr>
              <a:t>циркулацију –лимфотоко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1"/>
          <p:cNvSpPr/>
          <p:nvPr/>
        </p:nvSpPr>
        <p:spPr>
          <a:xfrm>
            <a:off x="250920" y="482760"/>
            <a:ext cx="3787560" cy="58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ДЕПОНОВАЊ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2"/>
          <p:cNvSpPr/>
          <p:nvPr/>
        </p:nvSpPr>
        <p:spPr>
          <a:xfrm>
            <a:off x="76320" y="1717560"/>
            <a:ext cx="8991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ваки вишак у уносу витамина Д  (прело коже или алиментарни )  депонован  у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јетри, мишићима, масном ткиву. кост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нешто резерви Вит Д се ствара у фетусу, нестају врло брзо по рођењу , у току првих недељ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Због неограничене интестиналне  ресорпције, високе акумулације, екцесивни унос оралним путем Витамина Д може озбиљно угрозити здрављ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Исти проблем настаје са парентералном применом витамина Д преко мер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1"/>
          <p:cNvSpPr/>
          <p:nvPr/>
        </p:nvSpPr>
        <p:spPr>
          <a:xfrm>
            <a:off x="156960" y="762120"/>
            <a:ext cx="268452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АКТИВАЦИЈ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152280" y="1500120"/>
            <a:ext cx="8686800" cy="55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sl-SI" sz="2400" spc="-1" strike="noStrike">
                <a:solidFill>
                  <a:srgbClr val="000000"/>
                </a:solidFill>
                <a:latin typeface="Times New Roman"/>
              </a:rPr>
              <a:t>-25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sl-SI" sz="2400" spc="-1" strike="noStrike">
                <a:solidFill>
                  <a:srgbClr val="000000"/>
                </a:solidFill>
                <a:latin typeface="Times New Roman"/>
              </a:rPr>
              <a:t>-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хидроксилација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25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хидроксилаза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Д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јетра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sl-SI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хидроксилаза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Times New Roman"/>
              </a:rPr>
              <a:t>25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H</a:t>
            </a:r>
            <a:r>
              <a:rPr b="0" i="1" lang="sl-SI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sl-SI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бубрег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кост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лацента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Да би испољио своје биолошко дејство витамин Д мора бити активиран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Транспорт  преко ДБП , делимично Алб и плазма липопротеин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активациј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хидролизом на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 25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у микрозомима хепатоцита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25 (OH)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холекалциферол- калцидиол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главни циркулишући облик витамина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Преко ДБП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25 (OH)D  →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митохондрије реналних проxималних тубулских  ћелија  макрофаге, моноците, ћелије скелета, зуба, дојки, простате, колона, панкреаса, адреланих жлезда, плаценте и других ткива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→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финална  1α хидроксилација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1,25 (OH)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калцитриол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најпотентнији метаболит витамина Д, стероидни хормон одговоран за бројне и најважније физиолошке процесе у тел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1"/>
          <p:cNvSpPr/>
          <p:nvPr/>
        </p:nvSpPr>
        <p:spPr>
          <a:xfrm>
            <a:off x="76320" y="1536840"/>
            <a:ext cx="5638680" cy="540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25 (OH)  D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</a:rPr>
              <a:t>полуживот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</a:rPr>
              <a:t>циркулацији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</a:rPr>
              <a:t>од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10-20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</a:rPr>
              <a:t>дан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1,25 (OH)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</a:rPr>
              <a:t>инактиван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</a:rPr>
              <a:t>з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</a:rPr>
              <a:t>само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4 -7</a:t>
            </a:r>
            <a:r>
              <a:rPr b="0" i="1" lang="sr-R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0000"/>
                </a:solidFill>
                <a:latin typeface="Times New Roman"/>
              </a:rPr>
              <a:t>серумски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RS" sz="2000" spc="-1" strike="noStrike">
                <a:solidFill>
                  <a:srgbClr val="ff0000"/>
                </a:solidFill>
                <a:latin typeface="Times New Roman"/>
              </a:rPr>
              <a:t>ниво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25</a:t>
            </a:r>
            <a:r>
              <a:rPr b="1" i="1" lang="sr-Latn-RS" sz="20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OH</a:t>
            </a:r>
            <a:r>
              <a:rPr b="1" i="1" lang="sr-Latn-RS" sz="20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 D </a:t>
            </a:r>
            <a:r>
              <a:rPr b="1" lang="sr-RS" sz="2000" spc="-1" strike="noStrike">
                <a:solidFill>
                  <a:srgbClr val="ff0000"/>
                </a:solidFill>
                <a:latin typeface="Times New Roman"/>
              </a:rPr>
              <a:t>се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RS" sz="2000" spc="-1" strike="noStrike">
                <a:solidFill>
                  <a:srgbClr val="ff0000"/>
                </a:solidFill>
                <a:latin typeface="Times New Roman"/>
              </a:rPr>
              <a:t>користи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RS" sz="2000" spc="-1" strike="noStrike">
                <a:solidFill>
                  <a:srgbClr val="ff0000"/>
                </a:solidFill>
                <a:latin typeface="Times New Roman"/>
              </a:rPr>
              <a:t>као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RS" sz="2000" spc="-1" strike="noStrike">
                <a:solidFill>
                  <a:srgbClr val="ff0000"/>
                </a:solidFill>
                <a:latin typeface="Times New Roman"/>
              </a:rPr>
              <a:t>реални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0000"/>
                </a:solidFill>
                <a:latin typeface="Times New Roman"/>
              </a:rPr>
              <a:t>параметар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RS" sz="2000" spc="-1" strike="noStrike">
                <a:solidFill>
                  <a:srgbClr val="ff0000"/>
                </a:solidFill>
                <a:latin typeface="Times New Roman"/>
              </a:rPr>
              <a:t>витамин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RS" sz="2000" spc="-1" strike="noStrike">
                <a:solidFill>
                  <a:srgbClr val="ff0000"/>
                </a:solidFill>
                <a:latin typeface="Times New Roman"/>
              </a:rPr>
              <a:t>Д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RS" sz="2000" spc="-1" strike="noStrike">
                <a:solidFill>
                  <a:srgbClr val="ff0000"/>
                </a:solidFill>
                <a:latin typeface="Times New Roman"/>
              </a:rPr>
              <a:t>статуса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RS" sz="2000" spc="-1" strike="noStrike">
                <a:solidFill>
                  <a:srgbClr val="ff0000"/>
                </a:solidFill>
                <a:latin typeface="Times New Roman"/>
              </a:rPr>
              <a:t>у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RS" sz="2000" spc="-1" strike="noStrike">
                <a:solidFill>
                  <a:srgbClr val="ff0000"/>
                </a:solidFill>
                <a:latin typeface="Times New Roman"/>
              </a:rPr>
              <a:t>организму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</a:rPr>
              <a:t>Активност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1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</a:rPr>
              <a:t>алф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</a:rPr>
              <a:t>хидрокслилазе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25</a:t>
            </a:r>
            <a:r>
              <a:rPr b="0" i="1" lang="sr-Latn-R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 OH)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</a:rPr>
              <a:t>бубрегу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</a:rPr>
              <a:t>примарно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</a:rPr>
              <a:t>стимулише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TH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</a:rPr>
              <a:t>хипо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,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</a:rPr>
              <a:t>хипо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</a:rPr>
              <a:t>хормон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</a:rPr>
              <a:t>раст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</a:rPr>
              <a:t>полни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</a:rPr>
              <a:t>хормон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</a:rPr>
              <a:t>пролактивн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</a:rPr>
              <a:t>низак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</a:rPr>
              <a:t>ниво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</a:rPr>
              <a:t>серуму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1,25(OH)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152280" y="609480"/>
            <a:ext cx="289584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АКТИВАЦИЈ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3" descr="79-1"/>
          <p:cNvPicPr/>
          <p:nvPr/>
        </p:nvPicPr>
        <p:blipFill>
          <a:blip r:embed="rId1"/>
          <a:stretch/>
        </p:blipFill>
        <p:spPr>
          <a:xfrm>
            <a:off x="5715000" y="685800"/>
            <a:ext cx="3124080" cy="5722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3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1"/>
          <p:cNvSpPr/>
          <p:nvPr/>
        </p:nvSpPr>
        <p:spPr>
          <a:xfrm>
            <a:off x="313200" y="533520"/>
            <a:ext cx="332496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ИНАКТИВАЦИЈ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304920" y="1270080"/>
            <a:ext cx="8839080" cy="25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sl-SI" sz="2400" spc="-1" strike="noStrike">
                <a:solidFill>
                  <a:srgbClr val="000000"/>
                </a:solidFill>
                <a:latin typeface="Times New Roman"/>
              </a:rPr>
              <a:t>-24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C</a:t>
            </a:r>
            <a:r>
              <a:rPr b="0" i="1" lang="sl-SI" sz="2400" spc="-1" strike="noStrike">
                <a:solidFill>
                  <a:srgbClr val="000000"/>
                </a:solidFill>
                <a:latin typeface="Times New Roman"/>
              </a:rPr>
              <a:t>-26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хидроксилациј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глукуронизациј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сулфатациј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лактонација  )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"/>
              </a:rPr>
              <a:t>                                                        ↓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у бубрезима, цреву, хрскавици, кожи, плаценти, простати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                                              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инактивни хидроксисолубилни продук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                                              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alcitronic аcid 1,25 carbocsilo derivat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Rectangle 3"/>
          <p:cNvSpPr/>
          <p:nvPr/>
        </p:nvSpPr>
        <p:spPr>
          <a:xfrm>
            <a:off x="321120" y="4200480"/>
            <a:ext cx="271548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ЕКСКРЕЦИЈ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4"/>
          <p:cNvSpPr/>
          <p:nvPr/>
        </p:nvSpPr>
        <p:spPr>
          <a:xfrm>
            <a:off x="1523880" y="5124600"/>
            <a:ext cx="6019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alcitronic acid 1,25 carboxilo deriva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 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реко урина и жуч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2"/>
          <p:cNvSpPr/>
          <p:nvPr/>
        </p:nvSpPr>
        <p:spPr>
          <a:xfrm>
            <a:off x="228600" y="76320"/>
            <a:ext cx="5562720" cy="649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ФИЗИОЛОШКА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УЛОГА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ИТ. Д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РЕГУЛАЦИЈ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ХОМЕОСТАЗЕ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a</a:t>
            </a:r>
            <a:r>
              <a:rPr b="0" i="1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МИНЕРАЛИЗАЦИЈ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КОШТАНОГ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ЗГЛОБНОГ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ТКИВ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3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СИНТЕЗ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ТРАНСПОРТНОГ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ПРОТЕИН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З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ЦРЕВИМ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СТИМУЛИШЕ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РЕАПС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a</a:t>
            </a:r>
            <a:r>
              <a:rPr b="0" i="1" lang="sl-SI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sl-SI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а</a:t>
            </a:r>
            <a:r>
              <a:rPr b="0" i="1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 AK</a:t>
            </a:r>
            <a:r>
              <a:rPr b="0" i="1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ТУБУЛИМ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ПРОЛИФЕРАЦИЈУ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ДИФЕРЕНЦИЈАЦИЈУ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ЋЕЛИЈ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6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ИМУНОРЕГУЛАЦИЈ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4" descr=""/>
          <p:cNvPicPr/>
          <p:nvPr/>
        </p:nvPicPr>
        <p:blipFill>
          <a:blip r:embed="rId1"/>
          <a:stretch/>
        </p:blipFill>
        <p:spPr>
          <a:xfrm>
            <a:off x="5500800" y="838080"/>
            <a:ext cx="3414600" cy="5434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25T18:37:51Z</dcterms:created>
  <dc:creator>No Name</dc:creator>
  <dc:description/>
  <dc:language>en-US</dc:language>
  <cp:lastModifiedBy>USER</cp:lastModifiedBy>
  <dcterms:modified xsi:type="dcterms:W3CDTF">2017-09-25T06:37:34Z</dcterms:modified>
  <cp:revision>38</cp:revision>
  <dc:subject/>
  <dc:title>PowerPoint Presentation</dc:title>
</cp:coreProperties>
</file>