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D5E-6639-4E5A-A8C1-6FD785672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511-4660-4681-BC59-B8042ADB2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A534-246C-4015-9A32-D16AC9AE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9CF-E565-46E5-8622-1D98432F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9AB-8769-4C23-AA3C-9CAEB93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E92-6CBA-49D1-9FCF-0BE73627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685-8879-456B-A520-2B01EAED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27F-03FE-477B-BB0E-5F4F9E51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6F8-4774-4F61-9B08-9B0C9DD1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99C-7BAD-47FB-8A7E-AE200531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12F-F50A-4B9D-BDCC-A5C48624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CCE-BE03-4A37-A621-DA6A41D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799-4E30-4953-A448-46E7F12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9784-CE78-4F52-84FC-57B3E2EE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E08-2A39-429D-9AE1-0EA936B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7A3-204C-41B3-9835-01C3D57E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760" y="1004760"/>
            <a:ext cx="5078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ЦЕ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853560" y="2747880"/>
            <a:ext cx="6476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КОМПЛЕ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СУФИЦИЈЕН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РЕОГЕН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ЖУЧ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КИСЕЛ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РНИТИНА</a:t>
            </a:r>
            <a:r>
              <a:rPr b="1" lang="sl-SI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725120" y="928800"/>
            <a:ext cx="4710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НА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ОМЕОСТА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7400" y="2057400"/>
            <a:ext cx="77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Г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ЗРЕ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F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АН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УБУЛС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ФУН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НСУФИЦИЈЕНТ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74880" y="5400720"/>
            <a:ext cx="654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НЕФРО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ПУ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U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МАТУРАЦИЈУ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2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го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НЦИП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ОЈЕЊЕ 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4200" y="2097000"/>
            <a:ext cx="8853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И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335400" y="258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ДРАТИ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1320" y="1903320"/>
            <a:ext cx="78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 /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838080"/>
            <a:ext cx="7772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 ПРОТЕИ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3320" y="2759040"/>
            <a:ext cx="875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ЕЛУДА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ЕПС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ЦРЕВ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А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РТ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ВОТО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ИНТЕ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ПЕЦИФИЧ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04920" y="898560"/>
            <a:ext cx="83055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3240" y="2960640"/>
            <a:ext cx="871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-40 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НГВ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ГАСТРИ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ТЕРОЦИТ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П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У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О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914400"/>
            <a:ext cx="8458200" cy="241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Times New Roman"/>
              </a:rPr>
              <a:t>           </a:t>
            </a:r>
            <a:r>
              <a:rPr b="1" lang="sr-R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УГ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Н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ЕСТЕРИФИКА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М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ОЛИПОПРОТ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ЛОМОКР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ИМФ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39120" y="3733920"/>
            <a:ext cx="769896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РЕД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Н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ДР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Л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ИФ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ЛИМФО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762120"/>
            <a:ext cx="9067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ОН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АЗВ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ИГЕСТ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ПСОРП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УГЉЕ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ИДРА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2000" y="2174760"/>
            <a:ext cx="8787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ИЛ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ЉУВ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ођењ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ста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МИЛ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А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одену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јвећ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исахари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АХАРИДА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А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ХАР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Т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26400" y="828720"/>
            <a:ext cx="85402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ЛУК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МЕТАБОЛИ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 ДА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ЕГР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ЛИ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КЛУ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ИКАРБОНСК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- ПИРОГРОЖЂАНАки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ПРЕТВА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...ДЕПОН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ШИЋ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/ 10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асл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икоге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зерв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,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ТАБОЛИСАЊ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l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l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72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10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852480"/>
            <a:ext cx="9296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ИНИОЦ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Т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АЛ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УКОЗ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АРИЈ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2120" y="1336680"/>
            <a:ext cx="8395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СП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ИФИЧНИ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ТРАЛУМИНАЛ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цидопепти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је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анкр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оли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еристалт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УКО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у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икрови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м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919440" y="120960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14040" y="2546280"/>
            <a:ext cx="4801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ЕКРЕТОР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ЕЛУЛАР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МУНИТЕ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64360" y="4657680"/>
            <a:ext cx="7083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ОМПЛ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0" lang="sl-SI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8:21:29Z</dcterms:created>
  <dc:creator>No Name</dc:creator>
  <dc:description/>
  <dc:language>en-US</dc:language>
  <cp:lastModifiedBy>USER</cp:lastModifiedBy>
  <dcterms:modified xsi:type="dcterms:W3CDTF">2017-09-25T06:32:26Z</dcterms:modified>
  <cp:revision>35</cp:revision>
  <dc:subject/>
  <dc:title>PowerPoint Presentation</dc:title>
</cp:coreProperties>
</file>