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1675-BD21-48CA-8B64-3D064ED17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D43F-6EF5-43A2-A207-14A83A442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D617-0E11-4E58-9739-CCFD81AA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09E-4403-4308-8764-4090822C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606C-9710-4867-A9AD-10068F6A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2271-F5CD-4E74-91B0-C407A99A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F9C-8494-46AD-80D4-875D511D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379F-3752-4459-BF85-7DE2754F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CB6-E26D-4E8E-B146-35D7C221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7964-510B-4DDD-9EA9-9D6BB16F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86B0-0BAC-4432-8B3C-294D5FF8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0717-3537-4E3E-942C-BBCB6607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D1BD-7466-4323-A320-FE8B0CEE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3B65-4F0A-4B90-B209-A4DBB31E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51EB-DDF5-4B1E-9933-C2863EACD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968560"/>
            <a:ext cx="77724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дијатрија – Исхрана 3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03360" y="933480"/>
            <a:ext cx="675576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ТРАИНДIКАЦИЈЕ ЗА ДОЈЕЊ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14880" y="2744640"/>
            <a:ext cx="618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ЛАВ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СПОСОБ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МЕТУРУ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И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ЗБИЉ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ШК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ЈК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ТЕ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026"/>
          <p:cNvSpPr/>
          <p:nvPr/>
        </p:nvSpPr>
        <p:spPr>
          <a:xfrm>
            <a:off x="990720" y="1519200"/>
            <a:ext cx="730080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ПУНСК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УТРИТИВ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00-40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mgVi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0-3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mgVit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0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.J VitD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875520" y="426960"/>
            <a:ext cx="63504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БЛЕМ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РОД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29400" y="2028960"/>
            <a:ext cx="6653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ДИМ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ЉУЦК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РАЋ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РЕДОВ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ОЛИЦ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КОЛИ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НЕВ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ОЛИЦ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3-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Д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271880" y="649440"/>
            <a:ext cx="48106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ЛТЕРНАТИВ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ЈЕЊ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463680" y="1905120"/>
            <a:ext cx="868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ТИ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У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ВЉЕ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А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ТИР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51768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505880" y="792000"/>
            <a:ext cx="47800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ДАПТИРА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ОРМУ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АВЉЕГ МЛЕКА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21600" y="2805120"/>
            <a:ext cx="612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СО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ДАПТИ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У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ЛИМИЧ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ДАПТИ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ЕЦИЈАЛ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Ч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УЛ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026"/>
          <p:cNvSpPr/>
          <p:nvPr/>
        </p:nvSpPr>
        <p:spPr>
          <a:xfrm>
            <a:off x="775080" y="709560"/>
            <a:ext cx="74372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ОРМУЛЕ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ОРАЈУ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МАТИ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АСТАВУ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АУР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СЕНЦИЈАЛ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ЦПУФ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КТОЗ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ТАМ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ЛЕКТРОЛИТ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30720" y="968400"/>
            <a:ext cx="71852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Д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ТИР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Е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Л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ЧН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ОР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ЛЕ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ЕДОН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ШЧ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ИШЕ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НУТР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В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ДРЖ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ИШЕ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K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Д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УР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И  О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И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Ш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Е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О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КРОЕ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ТАМ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290960" y="933480"/>
            <a:ext cx="6026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А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ТИ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059560" y="2814480"/>
            <a:ext cx="32292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З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ВЧ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641760" y="263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168200" y="868320"/>
            <a:ext cx="67680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ДОСТАТ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АВЉЕ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33240" y="2557440"/>
            <a:ext cx="266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УТРИТИВ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ЗИМС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АНСПОРТ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520560" y="152280"/>
            <a:ext cx="649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NUTRITIVNI NEDOSTACI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575720" y="1800360"/>
            <a:ext cx="5986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ДРЖАЈ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ЕЛАНЧЕВИН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ЗЕ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ОМИНИРАЈУ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Г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СИЋЕНИМ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ИЗА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ИВО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АКТОЗ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СОК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ЦЕНТРАЦИЈ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ЛЕКТРОЛИ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ОШ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ДНО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ДОСТАТА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ИКРОЕЛЕМЕНАТ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е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ТАМИН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04920" y="609480"/>
            <a:ext cx="8534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ДОСТАТ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АВЉЕ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81560" y="434880"/>
            <a:ext cx="805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ЕХНИКА ПРИПРЕМЕ ХРАНE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за одојчад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9000" y="1447920"/>
            <a:ext cx="8690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СТА НАМИРНИЦА И НАЧ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ПРЕМ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ТИЧ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АРЉИВ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ПСОРПЦИЈ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ЉИВ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ТЕР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КРЕЦИЈ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ТИЛИТЕ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КТЕРИЈСК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ЛОР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ВАР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ЛА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ГАСО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80880" y="324000"/>
            <a:ext cx="8960040" cy="186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МПЛИКАЦИ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ОЈЧ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АДАПТИРАНИ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АВЉИ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ЛЕКО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70080" y="2852640"/>
            <a:ext cx="8307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Х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ТАН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ИДЕРОПЕНИЈС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А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ИПЕРНАТРЕМ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ОЛЕРАНЦ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ВЉЕ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СТРУКЦ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КТОБЕЗОА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404280" y="511200"/>
            <a:ext cx="70524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ЛИЧИ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РОКА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ЧЕ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935640" y="2235240"/>
            <a:ext cx="5013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10 –2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ЛОСТРУ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Ј 2 НЕДЕ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5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 днев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ЈЕ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МЕСЕЦ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6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м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ЈЕ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 МЕСЕЦ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8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ЧЕ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0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050840" y="711360"/>
            <a:ext cx="6035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О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ИХ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321200" y="1959120"/>
            <a:ext cx="65836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ЕЦ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8-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ЛЕ 2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КИД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ОЋ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О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-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.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Р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749520" y="944640"/>
            <a:ext cx="65667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МЛЕЧ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ОЈЧАД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53080" y="1870200"/>
            <a:ext cx="85262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4-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РА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ТРЕБ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ВОЖЂА И ВЛАКНА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PRERANOG UVOĐENJ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48400" y="1328760"/>
            <a:ext cx="7634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ВОД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 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ТЕРВА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7-14 D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ЕЧ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Ш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 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ЛИ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ШИЧ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686600" y="909720"/>
            <a:ext cx="5862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ДАЈ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ДИТИ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О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ЕЋ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ДРЖА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ЛАК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РИНАЧ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4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Е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ЛУТЕ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Е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ЛЕЋ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УНЕЋ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ЛЕ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НУТРИЦЕ =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ЛЕЋ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ЏИГЕР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В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ЈО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РЋ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ИБ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У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ЕСК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ЈАБУ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76320" y="358920"/>
            <a:ext cx="8839080" cy="143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О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ПРЕДШКОЛ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04280" y="2309760"/>
            <a:ext cx="6170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ЕРГЕТСК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1100 –120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2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ТЕИНС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2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 више од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75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ОКА !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28600" y="1020600"/>
            <a:ext cx="86104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ВЕЋАВ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НЕГРИЈ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8600" y="2462040"/>
            <a:ext cx="6568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З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ВО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ВЕЋ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Ш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Ћ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С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ак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TM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0,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ТИВ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710640" y="685800"/>
            <a:ext cx="661968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КОЛ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ДОЛЕ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762120" y="256212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Ћ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ЧАЦ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СЕ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ОШ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ЛИ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АЈ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J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Р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0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46520" y="1162080"/>
            <a:ext cx="76204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Ч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РИС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АХ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Ч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ЗУМ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ЕЖ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ТИВ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37320" y="1035000"/>
            <a:ext cx="7264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ЛЕКО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АХ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ХЛАЂЕНА 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4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3 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ПУТ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K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Д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75Kcal/100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4240" y="76320"/>
            <a:ext cx="8014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3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ЕЧНО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НЗУМНО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РАВЉЕ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ЛЕКО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09160" y="1738440"/>
            <a:ext cx="80604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5-1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БЛАЖИ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2: 1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д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ринча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ва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СЛАЂИ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5-7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/ 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харо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ИШЕЉА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емијс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му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3-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/ 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олош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Lactobacillus acidophil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Lactobacillus bulgaric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Streptococcus lactis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6- 7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697320" y="728640"/>
            <a:ext cx="648612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Ч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Ш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( 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ЕЦ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+ 8%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ЕЋЕР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+ 7%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РУГ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нев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685800" y="3354480"/>
            <a:ext cx="775656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MARIOTTOVO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%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ЕЋ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гље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идра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%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УЗ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курузног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ро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%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МУНО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.к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муно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9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Kcal/100 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76440" y="1143000"/>
            <a:ext cx="82580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ЕДНОСТИ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OЈE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БЕЗ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ЂУ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ПУ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СХРА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З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Е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ИЗИ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м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ТЕ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Њ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УП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ПРЕ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Ф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J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ЧК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504080" y="434880"/>
            <a:ext cx="5056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ДОСТАТ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ЕЊ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58920" y="2139840"/>
            <a:ext cx="90136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РЖА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Њ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КТА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sti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psсes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МОГУЋ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РЕЂИВАЊ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ПОСИСАНО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ЛУМЕ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АК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Ј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Ј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ЗИ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026"/>
          <p:cNvSpPr/>
          <p:nvPr/>
        </p:nvSpPr>
        <p:spPr>
          <a:xfrm>
            <a:off x="152280" y="692280"/>
            <a:ext cx="89917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ЖУТИЦ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ЗРОК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АН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ОЈЕЊ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коњуг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а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ипербилирубинемија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ик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не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љ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Ма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илируби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, 3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ку мајке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оид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гнанол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П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куронск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еразе хепатоци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ује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ацитет коњ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ируб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20:48:33Z</dcterms:created>
  <dc:creator>No Name</dc:creator>
  <dc:description/>
  <dc:language>en-US</dc:language>
  <cp:lastModifiedBy>USER</cp:lastModifiedBy>
  <dcterms:modified xsi:type="dcterms:W3CDTF">2014-08-31T07:27:18Z</dcterms:modified>
  <cp:revision>56</cp:revision>
  <dc:subject/>
  <dc:title>PowerPoint Presentation</dc:title>
</cp:coreProperties>
</file>