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679-F5C0-4D4E-8816-F14F9FF3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A679-FA7C-4A85-94A0-AAACA4EA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9A3-3B3B-4524-9875-2BB52D34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4C4-F5DA-4ECC-B5CF-D0EA17EB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531-FFC5-4A1A-BA86-3152E10A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FE6-524B-4C6B-BB7F-D352686B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7C9-51E7-4FA8-89C7-07C720E1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347-C23D-4958-9E8A-F98E668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6EA-D4FA-4D90-A273-923D124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31F-2F1B-438D-A4BD-565AAAB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F4A-E94E-46FE-9D18-22BE96A4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31A-EC1D-4FF4-9E5E-AFFB77AD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FAA-F579-413A-BB8D-7CDEC1AA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0840" y="457200"/>
            <a:ext cx="85219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РЕМ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ЋАЈ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ДИГЕСТ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нкреа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т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холест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нутри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секунд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ја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liа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krodermatiti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patic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0000" y="1179360"/>
            <a:ext cx="9788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УТРИТИВН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Т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Б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В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mbl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d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И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ГИ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РЕ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3920" y="654120"/>
            <a:ext cx="83782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МАЊ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 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ОЛИЗА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ГЕНИТ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Ц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ОТИ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ПРИВ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480" y="971640"/>
            <a:ext cx="10177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УБИТАК НУТРИЈЕНАТ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ж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И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суда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пат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брег__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јаб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н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рн 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782280" y="324000"/>
            <a:ext cx="7848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ORE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A N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Ђ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У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5: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ТПРОСЕЧ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Ш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И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ЛО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вивалент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M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 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RV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ЛОУ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46360" y="609480"/>
            <a:ext cx="72414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Л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Ш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ЕН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В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КУНД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МУН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533520"/>
            <a:ext cx="754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тив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елеменат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74120" y="743040"/>
            <a:ext cx="732708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ФЕ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ЦИЈ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ЕРТИРЕО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РЕН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. CROH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ИЈАК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554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ЕСТИ МАЈ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х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диопулмон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 есенциј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533520"/>
            <a:ext cx="97534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ОБ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НУТР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60%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О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1160" y="1371600"/>
            <a:ext cx="6891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ДОВОЉАН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НОС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2800" y="628560"/>
            <a:ext cx="6907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М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3840" y="666720"/>
            <a:ext cx="7912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ПЉ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Њ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ЛБ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П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8840" y="961920"/>
            <a:ext cx="6685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РА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СТРО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УСН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У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ИЛОР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4:27:22Z</dcterms:created>
  <dc:creator>No Name</dc:creator>
  <dc:description/>
  <dc:language>en-US</dc:language>
  <cp:lastModifiedBy>Corporate Edition</cp:lastModifiedBy>
  <dcterms:modified xsi:type="dcterms:W3CDTF">2014-08-23T07:31:02Z</dcterms:modified>
  <cp:revision>33</cp:revision>
  <dc:subject/>
  <dc:title>PowerPoint Presentation</dc:title>
</cp:coreProperties>
</file>