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9AB6-B30B-4F90-A539-6F815C88D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017-B2B9-49C4-9A64-3F9BF83A0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72C-BF57-43DF-A614-2405244F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992-2767-4389-93A8-FF73EDC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81D4-8B06-4F3A-8FA2-F4BD92D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E5F-513A-464D-82A1-73764F36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007-8931-4F79-A4A0-3C767BE5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1A3-01BD-4AFB-B336-D70CDB4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6C1-29D7-4C2E-B92D-75AD35F9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F79-35BC-43BA-ABA5-4D50E8B2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E4A-5D87-4AD2-91E4-B4718D4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91F-507A-4BA9-A1CA-A155EA7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FFF-5E70-4C39-A3FD-DFAD9F6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468-BEC0-47DB-AB22-57BC41C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448-8148-45A3-B6C3-59A9E1EBC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4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едијатрија – Исхрана 6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3852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ЗНАКЕ РАХИТИ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ЛАБ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БИЈА ПРОФИЛАКС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Т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2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ЛКАЛНЕ ФОСФАТА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илсит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. Д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З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СНИ РАХИТИ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слеђ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Рахи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резистента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рапијске до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</a:t>
            </a: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хи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3-6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ЗАВИСНИ 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идроксила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0,5-2 g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a  5000-100 000 i.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ИП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недостај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ре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пто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одг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ц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тимулацију физиолошким дозама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sr-Latn-RS" sz="1800" spc="-1" strike="noStrike">
                <a:solidFill>
                  <a:srgbClr val="000000"/>
                </a:solidFill>
                <a:latin typeface="Calibri"/>
              </a:rPr>
              <a:t>h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alibri"/>
              </a:rPr>
              <a:t>3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5-20gr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lciferol  i do 1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200 000 i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j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2174760"/>
            <a:ext cx="419256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,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ез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za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X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р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р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r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асорпциј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обзи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о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вих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6-9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кс.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убулск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ич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оме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ла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раж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чко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ериод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иперфосфат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хипо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фатем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осфат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ијаб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зоста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унд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TH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  PTH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-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пци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ре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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мал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сл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1 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мушке дец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фрактарни на уобичајене дозе Вит. 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52352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4720" y="2174760"/>
            <a:ext cx="4041720" cy="44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нгениталн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течен</a:t>
            </a: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цист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редуктаз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глобал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нсуфијенц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к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јачан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злучив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рин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K,Glu, P, HC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3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Ca ,P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белан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ви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идиопатс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чешћ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расл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.)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ЕКУН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НИ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istinoz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hereditarna intolerancija FR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alaktozemij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glikogenoza Tip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- Wilsonova boles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Биохем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K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Ca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AF </a:t>
            </a:r>
            <a:r>
              <a:rPr b="1" i="1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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, fosfaturija, aminoacidurija, K-uri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аниф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Слабије напредовање у Т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 застој у раст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ЦИТ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вољан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кудно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лагањ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нц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F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ојазност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тр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лапсорп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нич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тестиналн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тивације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1,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сок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актив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25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-2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дроксилација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конвулзиви,фенитон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РЕЗИСТЕНТНИ РАХИТИС ФОСФОР ДЕФИЦИТ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ФАМИЛИЈАРНА ХИПОФОСФАТЕМ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2174400"/>
            <a:ext cx="404028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ЗЛИК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ВИТАМИНСКОГ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ИЗРАЗИТО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РАСТ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ОДСУТН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ХИПОТОНИЈ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300" spc="-1" strike="noStrike">
                <a:solidFill>
                  <a:srgbClr val="000000"/>
                </a:solidFill>
                <a:latin typeface="Calibri"/>
              </a:rPr>
              <a:t>МИШИЋА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: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30-60 ngr /kg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ferol  10 - 75 000 i.j.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-4 gr dnevn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нсу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je i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ja 25 (OH) u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РЕЂИВА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Ca-URIJ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ОД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N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КР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Т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RI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NA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УНОСА ВИТ. Д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T D  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И ПРЕДОЗИРАЊ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Прогн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</a:t>
            </a:r>
            <a:r>
              <a:rPr b="0" i="1" lang="sr-RS" sz="12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P -emij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ТПУ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докнада раста у вис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ANKONI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400"/>
            <a:ext cx="4041720" cy="43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враћањ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норексиј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ејасн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фебрилнос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дехидрац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ах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реаг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ит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ЦИД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МПРО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ТУЈЕ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ДЛ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 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O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ИДНО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KI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: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1,25(OH)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10-15 ngr/kg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alciferol  5- 50 000  i.j.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+ N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P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   1-4 gr dnev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Na HCO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2-15 mmol/k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бавез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ХИПЕРВИТАМИНОЗ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76680" y="1066680"/>
            <a:ext cx="9525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1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– 4000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иј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Calibri"/>
              </a:rPr>
              <a:t>дн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нтоксика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≥ 375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мо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( 150 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нг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/</a:t>
            </a:r>
            <a:r>
              <a:rPr b="1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л</a:t>
            </a:r>
            <a:r>
              <a:rPr b="1" lang="sr-Latn-RS" sz="2000" spc="-1" strike="noStrike" u="sng">
                <a:solidFill>
                  <a:srgbClr val="000000"/>
                </a:solidFill>
                <a:uFillTx/>
                <a:latin typeface="Calibri"/>
              </a:rPr>
              <a:t> 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лцинозо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ктопичн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епонован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ек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иоелект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асмиисије, мишић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sti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ука,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ремећај срчаног рит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депону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н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дове бубрег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фрокалциноза, хипетртензија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најтежим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њима ектопичне калцификације на Ртг миокарда, плућа, панкреаса и желуц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мене на крвним судовима и меким ткивим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рајна обележја интоксикације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Ca/Cr</a:t>
            </a:r>
            <a:r>
              <a:rPr b="1" i="1" lang="sr-Latn-RS" sz="2000" spc="-1" strike="noStrike">
                <a:solidFill>
                  <a:srgbClr val="000000"/>
                </a:solidFill>
                <a:latin typeface="Calibri"/>
              </a:rPr>
              <a:t> ≥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0,4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ажан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агностичк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раметар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рестрикциј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обр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диурез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рониз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 И СИМПТОМИ ДЕФИЦ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700" spc="-1" strike="noStrike">
                <a:solidFill>
                  <a:srgbClr val="ffffff"/>
                </a:solidFill>
                <a:latin typeface="Calibri"/>
              </a:rPr>
              <a:t>Vitamin D deficit je često klinički n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Манифест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ц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ј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: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ир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грчев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Физикални 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шком дефицит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ц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тичне  пром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улт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ериосални бол у костима на притиса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ерну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тиб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 ДЕФИЦИТА 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румск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 (OH) D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т.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тату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зултат  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утритивног  унос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синтез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ко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ИНТЕРПР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АЦ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 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ЛИЗ</a:t>
            </a: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≤ </a:t>
            </a:r>
            <a:r>
              <a:rPr b="1" lang="sr-Latn-RS" sz="2400" spc="-1" strike="noStrike">
                <a:solidFill>
                  <a:srgbClr val="ff0000"/>
                </a:solidFill>
                <a:latin typeface="Calibri"/>
              </a:rPr>
              <a:t>50 nmol/l (  ≤ 20 ng/ml )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вер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,5 nmol/l  25 (OH) D = 1 ng /ml 25 (OH)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i="1" lang="sr-Latn-RS" sz="2400" spc="-1" strike="noStrike" u="sng">
                <a:solidFill>
                  <a:srgbClr val="ff0000"/>
                </a:solidFill>
                <a:uFillTx/>
                <a:latin typeface="Calibri"/>
              </a:rPr>
              <a:t>40 IJ Vit D = 1µg Vit 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 ДЕФИЦИТА ВИТАМИНА 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198072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румс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центрација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≤ 5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≤ 2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жак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видљивим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ефектима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≤ 25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mol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sr-RS" sz="28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 ≤ 10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i="1" lang="sr-Latn-R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ЕПОРУКЕ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SPGHA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</a:t>
            </a:r>
            <a:r>
              <a:rPr b="1" i="1" lang="sr-RS" sz="3200" spc="-1" strike="noStrike">
                <a:solidFill>
                  <a:srgbClr val="000000"/>
                </a:solidFill>
                <a:latin typeface="Calibri"/>
              </a:rPr>
              <a:t>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71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СЕРУМСК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НЦЕНТРАЦИЈА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i="1" lang="sr-Latn-RS" sz="2400" spc="-1" strike="noStrike" u="sng">
                <a:solidFill>
                  <a:srgbClr val="000000"/>
                </a:solidFill>
                <a:uFillTx/>
                <a:latin typeface="Calibri"/>
              </a:rPr>
              <a:t>25(OH)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50 nmol/l ( 20 ng/l)   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25 nmol/l ( 10 ng/l)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=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И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179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драв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ахте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декват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1,25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ерумск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нцентра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реапсорпциј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еналних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убул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дејств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гативан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ахитиса и остеомалациј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ИТАМИН Д И КОШТАНА ЗРЕЛ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чест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ногим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љ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63-80%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вер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вропских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емаљ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ал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988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003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од.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166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каза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ојчад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4-54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с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22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убликациј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83%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описан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ф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мерика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рнаца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кор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в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јен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(96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11:18:03Z</dcterms:created>
  <dc:creator>Corporate Edition</dc:creator>
  <dc:description/>
  <dc:language>en-US</dc:language>
  <cp:lastModifiedBy>USER</cp:lastModifiedBy>
  <dcterms:modified xsi:type="dcterms:W3CDTF">2017-09-25T06:42:34Z</dcterms:modified>
  <cp:revision>22</cp:revision>
  <dc:subject/>
  <dc:title>Slide 1</dc:title>
</cp:coreProperties>
</file>